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1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1.png" ContentType="image/png"/>
  <Override PartName="/ppt/media/image36.png" ContentType="image/png"/>
  <Override PartName="/ppt/media/image12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A3A-4446-4F95-96EF-6BD0C219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697-C447-4B36-95A3-5A9C22EE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9CD-443F-4811-B544-5F2739FE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CA2-DD9D-4240-BBD0-AB17CABB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F36-8A40-4BE3-87FA-9E4EE110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7A4-8A3C-44AE-9DA9-6BB91C7B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659-4E34-405C-B77E-98E53D8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298-FD35-443F-8755-8EAA20DE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4CA6-E423-4694-A94E-C0667A24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1C0-FFCA-4CED-8920-D2EB4B8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722-0014-45D0-A989-CC3A54B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774-F662-4471-9C65-27FA2BA8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D299-B911-4F7D-B8BA-0C1354372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23.png"/><Relationship Id="rId6" Type="http://schemas.openxmlformats.org/officeDocument/2006/relationships/image" Target="../media/image15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ematical Models:  Construct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33920" y="209520"/>
            <a:ext cx="426708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8929800" cy="188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09480" y="3200400"/>
            <a:ext cx="3733920" cy="25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43000" y="6019920"/>
            <a:ext cx="167652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715000" y="5943600"/>
            <a:ext cx="1600200" cy="50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181480" y="3276720"/>
            <a:ext cx="33530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33920" y="209520"/>
            <a:ext cx="4267080" cy="62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9480" y="3200400"/>
            <a:ext cx="3733920" cy="25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143000" y="6019920"/>
            <a:ext cx="167652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5715000" y="5943600"/>
            <a:ext cx="1600200" cy="500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181480" y="3276720"/>
            <a:ext cx="3353040" cy="249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28600" y="838080"/>
            <a:ext cx="876312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480" y="3152880"/>
            <a:ext cx="815364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7924680" cy="50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828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imeter of a rectangle is 300 feet.  Express its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function of the lengt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2281320" cy="28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886200" y="3962520"/>
          <a:ext cx="3174840" cy="1380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3962520"/>
                    <a:ext cx="317484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5486400" cy="411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892008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429000" y="1981080"/>
            <a:ext cx="1981080" cy="77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28600" y="2695680"/>
            <a:ext cx="888696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2438280" y="3505320"/>
          <a:ext cx="4419720" cy="1009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38280" y="3505320"/>
                    <a:ext cx="441972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304920" y="4572000"/>
            <a:ext cx="853416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1219320" y="5410080"/>
          <a:ext cx="6705360" cy="113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410080"/>
                    <a:ext cx="6705360" cy="1135080"/>
                  </a:xfrm>
                  <a:prstGeom prst="rect">
                    <a:avLst/>
                  </a:prstGeom>
                  <a:ln w="2844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056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839080" cy="36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6040" y="1219320"/>
            <a:ext cx="8967960" cy="33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8600" y="4676760"/>
            <a:ext cx="2781360" cy="218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352680" y="4724280"/>
            <a:ext cx="4924440" cy="571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3352680" y="5410080"/>
            <a:ext cx="5162760" cy="62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1676520"/>
            <a:ext cx="6858000" cy="380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0560" cy="530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839080" cy="36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6040" y="1219320"/>
            <a:ext cx="8967960" cy="3581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28600" y="4753080"/>
            <a:ext cx="2781360" cy="21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352680" y="3048120"/>
            <a:ext cx="4670640" cy="69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352680" y="2057400"/>
            <a:ext cx="1955880" cy="4287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3338640" y="2562120"/>
            <a:ext cx="296676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3581280" y="4952880"/>
            <a:ext cx="503100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3581280" y="5791320"/>
            <a:ext cx="5273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0560" cy="53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839080" cy="368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0" t="0" r="0" b="87240"/>
          <a:stretch/>
        </p:blipFill>
        <p:spPr>
          <a:xfrm>
            <a:off x="176040" y="1219320"/>
            <a:ext cx="8967960" cy="457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066680" y="4114800"/>
            <a:ext cx="2781360" cy="2181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676520" y="1752480"/>
            <a:ext cx="5273640" cy="64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rcRect l="0" t="70219" r="0" b="0"/>
          <a:stretch/>
        </p:blipFill>
        <p:spPr>
          <a:xfrm>
            <a:off x="176040" y="2590920"/>
            <a:ext cx="896796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4495680" y="4114800"/>
            <a:ext cx="3276720" cy="218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5105160" cy="527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914400"/>
            <a:ext cx="8991720" cy="12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133720" y="1905120"/>
            <a:ext cx="4857480" cy="1942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52280" y="4343400"/>
            <a:ext cx="85345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352680" y="228600"/>
            <a:ext cx="4496040" cy="601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966960"/>
            <a:ext cx="9144000" cy="633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28600" y="1752480"/>
            <a:ext cx="6620040" cy="1581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486400" y="2209680"/>
            <a:ext cx="3657600" cy="3422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28600" y="3505320"/>
            <a:ext cx="2743200" cy="205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2819520" y="4653000"/>
            <a:ext cx="28191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3T22:09:06Z</dcterms:modified>
  <cp:revision>7</cp:revision>
  <dc:subject/>
  <dc:title>Slide 1</dc:title>
</cp:coreProperties>
</file>